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483-85E5-49E6-9A53-BAB49C60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E72-DE63-4D13-8C71-BE193811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763-327E-4CCA-A9CD-D75A061D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52B-A347-4446-8958-8EDAB2BC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611F-D714-4099-83F3-CE6D365A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E564-EB9F-4B22-9681-A7777E80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6AE5-D265-4A48-A611-977A767A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B8AC-5015-432F-8FA1-39C23E70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B1EA-D1C8-403B-8243-FFD359AE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823E-9E11-4126-9D1C-AF47BC9C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17FB-393D-4737-811A-821B977B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27E-06C8-4484-B6BB-884D3F3E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69CA-60EF-480D-AB2B-C075809E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048C-60F9-4C87-B490-21FE4BDD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4347-A09C-424F-AD3F-01237300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8A07-F9A6-4047-92FE-F2D9D339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89D5-E328-4615-84C7-42F3A816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980-A5BA-4BAD-B4E8-356BCCCF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EED-07A6-4354-B9DA-16ED77DC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719-1993-4FFB-9753-F82F8679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193-1EAF-4FAE-9E65-F93728E6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D36-4695-4AEB-9686-0BAFBCC0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42E-58B3-44C5-945B-693F45C5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470-9D65-435F-A610-A9FF2B4D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5DC2-C90B-41E3-82F8-8DEAD3BB2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53C6-31B9-44D6-B68C-C9A0CA8DC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Leadership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ituational Approach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Vroom-Yetten Contingency Mode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 model developed by Victor Vroom and Phillip Yetten is based on a model which takes a contingency approach to leade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odel is based on the assumption that situational variables interacting with personal attributes or characteristics of the leader result in leader behavior that can affect organizational effectivenes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s of Managerial Decision Styles in the Vroom-Yetten Mode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olve the problem using information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Obtain necessary information from your follo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hare the information with relevant followers (individu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hare the problem with your followers as a group, obtain ideas and sugg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hare a problem with your followers to generate and evaluate alternatives and reach consen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Vroom-Yetten Summariz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pproach is important for several reas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widely respected among researchers in leadership behavi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 should have the ability to vary their styles to fit the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can work to be developed into more effective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Hersey-Blanchard Tridemensional Leader Effectiveness Mode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this model, the terms task behavior and relationship behavior are used to describe leadership sty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ask behavio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The extent to which leaders are likely to organize and define the roles of the members of their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 behavior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extent to which leaders are likely to maintain personal relationships between themselves and members of their group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Hersey-Blanchard Tridemensional Leader Effectiveness Mode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828800"/>
          <a:ext cx="7772400" cy="4951080"/>
        </p:xfrm>
        <a:graphic>
          <a:graphicData uri="http://schemas.openxmlformats.org/drawingml/2006/table">
            <a:tbl>
              <a:tblPr/>
              <a:tblGrid>
                <a:gridCol w="1981080"/>
                <a:gridCol w="3200400"/>
                <a:gridCol w="2590920"/>
              </a:tblGrid>
              <a:tr h="1343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onshi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havi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onship an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T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 T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 Relationsh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T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Relationsh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 T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Relationsh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sk Behavi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                                              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048120" y="5791320"/>
            <a:ext cx="5029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228600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733920"/>
            <a:ext cx="131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ffectiveness Dimen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ffectiveness of leaders depends on how appropriate their leadership style is to the situation in which they oper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effectiveness to the task behavior and relationship behavior dimensions, leadership style and situational demands are integr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strum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gather data about behavior of leaders, two leader effectiveness and adaptability description instruments were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adership Instrumen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sistenc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istency is using the style appropriate for the followers’ level of readiness in such a way that they understand why they are getting a certain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udies show that there is no best style of leadersh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ective leaders adapt their behavior to meet the needs of their followers’ and the particular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ituational Approaches to Leadersh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tuational approaches to leadership examine the interplay among  the leader, the follower and the situation in order to find causal relationships that will lead to predictability of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ituational approaches require the leader to behave in a flexible manner to be able to diagnose leadership style appropriate to the situation and to be able to apply the appropriate sty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ve Situational Models and Theori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annenbaum-Schmidt Continuum of Leadership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edler’s Contingency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ouse-Mitchell Path-Goal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Vroom-Yetten Contingency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rsey-Blanchard Tridimensional Leader Effectiven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annenbaum-Schmidt Continuum of Leader Behavio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Choose a Leadership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 one of the seven possible leader behaviors depending upon the for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two styles of leader behavior which are authoritarian and democrat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adership Sty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thoritari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Leader makes decision and announces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ssumes people are innately lazy and unrel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mocr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 permits followers to function within limits defined by sup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ssumes that people can be basically self-directed and creative at work if properly motiva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edler’s Contingency Mode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major situational variabl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er -Members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sonal relations with members of their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sk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recting a well defined j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sition P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ower and authority their position prov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Leadership Styles Fiedler Concluded Are Appropriate for Various Group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205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sk- Oriented Sty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onships-Oriented Considerate Sty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sk-Oriented Sty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vorable-Leadership 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tuation Intermediate in Favorableness for Lea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favorable Leadership 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ouse-Mitchell Path-Goal Theor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rding to this theory, leaders are effective because of their impact on followers’ motivation, ability to perform effectively and satisfa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ory is called Path-Goal because its major concern is how the leader influences the followers’ perception of their work, goals, personal goals and path to goal attai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eader Roles in the Path-Goal Mode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th Clar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er defines what follower must do to attain work out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er clarifies follower’s work r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llower has increased knowledge and confidence to accomplish outco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crease Rew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er learns follower’s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er matches followers needs to reward if work outcomes are accomplish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er increases value of work outcomes for follo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5257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360" y="5375160"/>
            <a:ext cx="80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3341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51814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er displays increased effort and moti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609588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ational work outcomes are accomplis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51460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243828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8000" y="54100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21:51:05Z</dcterms:created>
  <dc:creator>Valued Gateway Client</dc:creator>
  <dc:description/>
  <dc:language>en-US</dc:language>
  <cp:lastModifiedBy>AEURY</cp:lastModifiedBy>
  <dcterms:modified xsi:type="dcterms:W3CDTF">2006-09-05T16:58:16Z</dcterms:modified>
  <cp:revision>28</cp:revision>
  <dc:subject/>
  <dc:title>Leadership:  Situational Approaches</dc:title>
</cp:coreProperties>
</file>